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11CB-8B86-416F-8D62-99E84C0DDE8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A398-0FF8-4213-805B-9A8A646CD2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54E3-CDBF-47C6-8594-53792D6679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96A8-0FF8-4FDB-AFEE-298F3E65267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F65B-434E-4800-9D8E-4C18C44D85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F49F-D9D6-4BBB-88EC-69F6607D756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608A-1D9A-4006-BE01-C73B455F6B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1BBB-9332-49F5-BD37-C8496253C5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01D8-D59C-40D0-963F-1212864A70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CCF8-F564-4B72-AD1E-23F2A5DD27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F05D-A3E6-4457-A484-51A1706AEA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F2D7-8A8A-4683-A836-4019645FD3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F308-2DD2-4A5C-987F-CBC2FA0975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F029-26B7-42DA-9491-92448B16DC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DE69-0E91-4604-AEDB-346C3A1756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D08-85D3-457A-8A4E-BF0A100BB0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72A0-7838-4EC5-B164-364E8F1C81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6C09-1850-44B2-969B-F02F64E158F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C144-22DC-4C73-9199-EF570F4505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99D4-BCBA-4B46-A55E-791FCEF9CA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98CE-31C6-44FB-9EF5-F5E0D7BA0E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74E6-AC95-4C54-AD69-4802F5FF9E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F4F5-3B1F-46A2-995A-AC518088F8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CB9B-6AF7-42BA-9631-932CDEE328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5C4A-43EB-40EB-8FF1-9993B38E50C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7F43-FB51-4282-BD61-C0BFFE491E8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71F7-166E-4C20-95A9-746A8683D6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3E2-569B-48C5-A813-91311D3489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4A32-A8F6-4CF6-A927-15A90E96C6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961B-C012-458B-9221-EB1E8C7F3D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AE5D-9D8C-4951-9A21-FC8B5D0EF70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620B-6EC7-413A-80C1-A869ABF7E7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A63B-5533-4C00-8BF3-7467CE6EE6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147-876B-4166-A184-1D3B14E4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A5B-47CD-4898-ABA0-B4802AE0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8FE-14BC-48E7-93E3-76BF5B39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1C4-C64A-4870-B892-384BD60D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998-D480-4CA7-8056-6444880D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2FC-A68C-462C-87DF-03BB501C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29B-F83A-449C-B5DC-3CC7CE77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4D1-DAFD-4CD5-BDA7-B878F5CA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771-A439-4890-996C-560AA2C0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983-401F-4E25-B2A4-F0D4FD5F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0DF-6EB7-4E6F-8740-64F2CD8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CF9-0295-40D2-A086-4F8AAAB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085E-1C34-474A-AE31-058145FDD41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rco a tutto sesto 3"/>
          <p:cNvSpPr/>
          <p:nvPr/>
        </p:nvSpPr>
        <p:spPr>
          <a:xfrm>
            <a:off x="0" y="752400"/>
            <a:ext cx="9144000" cy="6105600"/>
          </a:xfrm>
          <a:custGeom>
            <a:avLst/>
            <a:gdLst>
              <a:gd name="textAreaLeft" fmla="*/ 3600 w 9144000"/>
              <a:gd name="textAreaRight" fmla="*/ 9144360 w 9144000"/>
              <a:gd name="textAreaTop" fmla="*/ 0 h 6105600"/>
              <a:gd name="textAreaBottom" fmla="*/ 3180960 h 6105600"/>
            </a:gdLst>
            <a:ahLst/>
            <a:rect l="textAreaLeft" t="textAreaTop" r="textAreaRight" b="textAreaBottom"/>
            <a:pathLst>
              <a:path w="9144000" h="6105525">
                <a:moveTo>
                  <a:pt x="3729" y="2929484"/>
                </a:moveTo>
                <a:lnTo>
                  <a:pt x="3729" y="2929484"/>
                </a:lnTo>
                <a:arcTo wR="4572000" hR="3052763" stAng="-10707252" swAng="10803607"/>
                <a:lnTo>
                  <a:pt x="6982631" y="3120341"/>
                </a:lnTo>
                <a:lnTo>
                  <a:pt x="6982631" y="3120341"/>
                </a:lnTo>
                <a:arcTo wR="2417482" hR="898245" stAng="96348" swAng="-10803609"/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ttangolo 10" descr=""/>
          <p:cNvPicPr/>
          <p:nvPr/>
        </p:nvPicPr>
        <p:blipFill>
          <a:blip r:embed="rId1"/>
          <a:stretch/>
        </p:blipFill>
        <p:spPr>
          <a:xfrm>
            <a:off x="3060720" y="1268280"/>
            <a:ext cx="273672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Rettangolo 11"/>
          <p:cNvSpPr/>
          <p:nvPr/>
        </p:nvSpPr>
        <p:spPr>
          <a:xfrm>
            <a:off x="3857760" y="46753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a Spe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19 Gennaio 20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ttangolo 12"/>
          <p:cNvSpPr/>
          <p:nvPr/>
        </p:nvSpPr>
        <p:spPr>
          <a:xfrm>
            <a:off x="5572080" y="5837400"/>
            <a:ext cx="32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nna Maria Di Fal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ttangolo 13" descr=""/>
          <p:cNvPicPr/>
          <p:nvPr/>
        </p:nvPicPr>
        <p:blipFill>
          <a:blip r:embed="rId2"/>
          <a:stretch/>
        </p:blipFill>
        <p:spPr>
          <a:xfrm>
            <a:off x="-96840" y="2786040"/>
            <a:ext cx="2359080" cy="517680"/>
          </a:xfrm>
          <a:prstGeom prst="rect">
            <a:avLst/>
          </a:prstGeom>
          <a:ln w="0">
            <a:noFill/>
          </a:ln>
        </p:spPr>
      </p:pic>
      <p:pic>
        <p:nvPicPr>
          <p:cNvPr id="53" name="Rettangolo 14" descr=""/>
          <p:cNvPicPr/>
          <p:nvPr/>
        </p:nvPicPr>
        <p:blipFill>
          <a:blip r:embed="rId3"/>
          <a:stretch/>
        </p:blipFill>
        <p:spPr>
          <a:xfrm>
            <a:off x="6686640" y="2859120"/>
            <a:ext cx="21589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840" y="272880"/>
            <a:ext cx="3251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  <a:ea typeface="Arial"/>
              </a:rPr>
              <a:t>Il D.M. 139/200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4800" y="272880"/>
            <a:ext cx="5111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Art. 1: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struzione obbligatoria per 10 an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Art.2 :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saperi e competenze da garantire al termine dell’obbli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Art. 3 :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interventi a sostegno dell’obbligo di istru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37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7375e"/>
                </a:solidFill>
                <a:latin typeface="Calibri"/>
                <a:ea typeface="Arial"/>
              </a:rPr>
              <a:t>Regolamen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7375e"/>
                </a:solidFill>
                <a:latin typeface="Calibri"/>
                <a:ea typeface="Arial"/>
              </a:rPr>
              <a:t>che disciplina l’adempimen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  <a:ea typeface="Arial"/>
              </a:rPr>
              <a:t>dell’obbligo di istruzi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ttangolo 4"/>
          <p:cNvSpPr/>
          <p:nvPr/>
        </p:nvSpPr>
        <p:spPr>
          <a:xfrm>
            <a:off x="1000080" y="55008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cc3300"/>
                </a:solidFill>
                <a:latin typeface="Calibri"/>
              </a:rPr>
              <a:t>Modello ufficiale certificazione competenze</a:t>
            </a:r>
            <a:br>
              <a:rPr sz="3200"/>
            </a:br>
            <a:r>
              <a:rPr b="1" lang="it-IT" sz="3200" spc="-1" strike="noStrike">
                <a:solidFill>
                  <a:srgbClr val="cc3300"/>
                </a:solidFill>
                <a:latin typeface="Calibri"/>
              </a:rPr>
              <a:t>D.M.9/2010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140000" y="1341360"/>
            <a:ext cx="4824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alibri"/>
              </a:rPr>
              <a:t>8 competenze chiave di cittadina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imparare a impar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rogett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comuni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collaborare e partecip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agire in modo autonomo e respons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risolvere probl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individuare collegamenti e rela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acquisire e interpretare l’inform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55280" y="1600200"/>
            <a:ext cx="3740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cc3300"/>
                </a:solidFill>
                <a:latin typeface="Calibri"/>
              </a:rPr>
              <a:t>4 assi cultur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dei linguag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matema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scientifico-tecnolo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storico-soc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28"/>
          <p:cNvSpPr/>
          <p:nvPr/>
        </p:nvSpPr>
        <p:spPr>
          <a:xfrm>
            <a:off x="179280" y="2205000"/>
            <a:ext cx="2890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179280" y="2781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179280" y="3573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1"/>
          <p:cNvSpPr/>
          <p:nvPr/>
        </p:nvSpPr>
        <p:spPr>
          <a:xfrm>
            <a:off x="250920" y="4508640"/>
            <a:ext cx="28872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2"/>
          <p:cNvSpPr/>
          <p:nvPr/>
        </p:nvSpPr>
        <p:spPr>
          <a:xfrm>
            <a:off x="3851280" y="2349360"/>
            <a:ext cx="289080" cy="4175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8720 h 4175280"/>
              <a:gd name="textAreaBottom" fmla="*/ 4066560 h 417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1859c"/>
                </a:solidFill>
                <a:latin typeface="Calibri"/>
              </a:rPr>
              <a:t>Indicazioni Nazion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00000"/>
                </a:solidFill>
                <a:latin typeface="Calibri"/>
              </a:rPr>
              <a:t>Continuità </a:t>
            </a:r>
            <a:r>
              <a:rPr b="1" i="1" lang="it-IT" sz="3200" spc="-1" strike="noStrike">
                <a:solidFill>
                  <a:srgbClr val="002060"/>
                </a:solidFill>
                <a:latin typeface="Calibri"/>
              </a:rPr>
              <a:t>con la secondaria di I grado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it-IT" sz="3200" spc="-1" strike="noStrike">
                <a:solidFill>
                  <a:srgbClr val="002060"/>
                </a:solidFill>
                <a:latin typeface="Calibri"/>
              </a:rPr>
              <a:t>Focalizzazione di </a:t>
            </a:r>
            <a:r>
              <a:rPr b="1" i="1" lang="it-IT" sz="3200" spc="-1" strike="noStrike">
                <a:solidFill>
                  <a:srgbClr val="c00000"/>
                </a:solidFill>
                <a:latin typeface="Calibri"/>
              </a:rPr>
              <a:t>saperi e competenze comuni </a:t>
            </a:r>
            <a:r>
              <a:rPr b="1" i="1" lang="it-IT" sz="3200" spc="-1" strike="noStrike">
                <a:solidFill>
                  <a:srgbClr val="002060"/>
                </a:solidFill>
                <a:latin typeface="Calibri"/>
              </a:rPr>
              <a:t>ai percorsi liceali, tecnici e profession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it-IT" sz="3200" spc="-1" strike="noStrike">
                <a:solidFill>
                  <a:srgbClr val="002060"/>
                </a:solidFill>
                <a:latin typeface="Calibri"/>
              </a:rPr>
              <a:t>Individuazione di nuclei comuni  per facilitare </a:t>
            </a:r>
            <a:r>
              <a:rPr b="1" i="1" lang="it-IT" sz="3200" spc="-1" strike="noStrike">
                <a:solidFill>
                  <a:srgbClr val="c00000"/>
                </a:solidFill>
                <a:latin typeface="Calibri"/>
              </a:rPr>
              <a:t>passaggi da un ordine di studio a un al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criteri costitutivi comuni per l’assolvimento dell’obbligo di istru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I BIENN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arentesi graffa aperta 7"/>
          <p:cNvSpPr/>
          <p:nvPr/>
        </p:nvSpPr>
        <p:spPr>
          <a:xfrm>
            <a:off x="2928960" y="285840"/>
            <a:ext cx="1071720" cy="6072120"/>
          </a:xfrm>
          <a:custGeom>
            <a:avLst/>
            <a:gdLst>
              <a:gd name="textAreaLeft" fmla="*/ 684720 w 1071720"/>
              <a:gd name="textAreaRight" fmla="*/ 1072080 w 1071720"/>
              <a:gd name="textAreaTop" fmla="*/ 27720 h 6072120"/>
              <a:gd name="textAreaBottom" fmla="*/ 6044400 h 607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6199"/>
                </a:lnTo>
                <a:cubicBezTo>
                  <a:pt x="10800" y="16358"/>
                  <a:pt x="5400" y="16517"/>
                  <a:pt x="0" y="16517"/>
                </a:cubicBezTo>
                <a:cubicBezTo>
                  <a:pt x="5400" y="16517"/>
                  <a:pt x="10800" y="16676"/>
                  <a:pt x="10800" y="16835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560" y="272880"/>
            <a:ext cx="33224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  <a:ea typeface="Arial"/>
              </a:rPr>
              <a:t>Il D.M. 139/2007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42880" y="928440"/>
            <a:ext cx="41864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La continuità tra i diversi gradi scol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La didattica per compete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La valutazione e la certificazione delle competenze acqui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480" y="1428840"/>
            <a:ext cx="28940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Arial"/>
              </a:rPr>
              <a:t>Regolamento che discipl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Arial"/>
              </a:rPr>
              <a:t>l’adempimen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  <a:ea typeface="Arial"/>
              </a:rPr>
              <a:t>dell’obbligo di istru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asellaDiTesto 4"/>
          <p:cNvSpPr/>
          <p:nvPr/>
        </p:nvSpPr>
        <p:spPr>
          <a:xfrm>
            <a:off x="3429000" y="1357200"/>
            <a:ext cx="66672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sellaDiTesto 5"/>
          <p:cNvSpPr/>
          <p:nvPr/>
        </p:nvSpPr>
        <p:spPr>
          <a:xfrm>
            <a:off x="8429760" y="785880"/>
            <a:ext cx="49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Connettore 4 15"/>
          <p:cNvCxnSpPr/>
          <p:nvPr/>
        </p:nvCxnSpPr>
        <p:spPr>
          <a:xfrm rot="5400000">
            <a:off x="6285600" y="3357360"/>
            <a:ext cx="4787280" cy="500760"/>
          </a:xfrm>
          <a:prstGeom prst="bentConnector3">
            <a:avLst>
              <a:gd name="adj1" fmla="val -643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22" name="Connettore 4 19"/>
          <p:cNvCxnSpPr/>
          <p:nvPr/>
        </p:nvCxnSpPr>
        <p:spPr>
          <a:xfrm flipH="1" rot="16200000">
            <a:off x="-786960" y="1999800"/>
            <a:ext cx="5001480" cy="3429720"/>
          </a:xfrm>
          <a:prstGeom prst="bentConnector3">
            <a:avLst>
              <a:gd name="adj1" fmla="val 2346"/>
            </a:avLst>
          </a:prstGeom>
          <a:ln w="9360">
            <a:solidFill>
              <a:srgbClr val="be4b4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4653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1859c"/>
                </a:solidFill>
                <a:latin typeface="Calibri"/>
              </a:rPr>
              <a:t>Indicazioni Nazionali e criteri costitutivi comu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75160" y="272880"/>
            <a:ext cx="5425920" cy="62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articolazione del quinquenni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esplicitazione dei nuclei fondanti e dei contenuti imprescindibili al posto dei programmi tradiziona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rivendicazione dell’unitarietà dell’apprendimento senza separazioni marcate di ambiti disciplinar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assolvimento dell’obbligo scolastico al termine del primo biennio della secondaria di II gr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206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5430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3   +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A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arentesi graffa aperta 4"/>
          <p:cNvSpPr/>
          <p:nvPr/>
        </p:nvSpPr>
        <p:spPr>
          <a:xfrm>
            <a:off x="3000240" y="285840"/>
            <a:ext cx="857520" cy="6215040"/>
          </a:xfrm>
          <a:custGeom>
            <a:avLst/>
            <a:gdLst>
              <a:gd name="textAreaLeft" fmla="*/ 547920 w 857520"/>
              <a:gd name="textAreaRight" fmla="*/ 857880 w 857520"/>
              <a:gd name="textAreaTop" fmla="*/ 73440 h 6215040"/>
              <a:gd name="textAreaBottom" fmla="*/ 6141600 h 621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0"/>
                  <a:pt x="10800" y="819"/>
                </a:cubicBezTo>
                <a:lnTo>
                  <a:pt x="10800" y="11815"/>
                </a:lnTo>
                <a:cubicBezTo>
                  <a:pt x="10800" y="12225"/>
                  <a:pt x="5400" y="12634"/>
                  <a:pt x="0" y="12634"/>
                </a:cubicBezTo>
                <a:cubicBezTo>
                  <a:pt x="5400" y="12634"/>
                  <a:pt x="10800" y="13044"/>
                  <a:pt x="10800" y="13453"/>
                </a:cubicBezTo>
                <a:lnTo>
                  <a:pt x="10800" y="20781"/>
                </a:lnTo>
                <a:cubicBezTo>
                  <a:pt x="10800" y="2119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4653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1859c"/>
                </a:solidFill>
                <a:latin typeface="Calibri"/>
              </a:rPr>
              <a:t>Indicazioni Nazionali e criteri costitutivi comu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75160" y="272880"/>
            <a:ext cx="5425920" cy="62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alibri"/>
              </a:rPr>
              <a:t>contenuti come strumenti per </a:t>
            </a:r>
            <a:r>
              <a:rPr b="1" i="1" lang="it-IT" sz="2800" spc="-1" strike="noStrike">
                <a:solidFill>
                  <a:srgbClr val="003366"/>
                </a:solidFill>
                <a:latin typeface="Calibri"/>
              </a:rPr>
              <a:t>conoscere e comprendere</a:t>
            </a:r>
            <a:r>
              <a:rPr b="1" lang="it-IT" sz="2800" spc="-1" strike="noStrike">
                <a:solidFill>
                  <a:srgbClr val="003366"/>
                </a:solidFill>
                <a:latin typeface="Calibri"/>
              </a:rPr>
              <a:t> la complessità del re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alibri"/>
              </a:rPr>
              <a:t>didattica laborator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alibri"/>
              </a:rPr>
              <a:t>strumenti multimediali a supporto della didatt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5430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3   +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it-IT" sz="3000" spc="-1" strike="noStrike">
                <a:solidFill>
                  <a:srgbClr val="c00000"/>
                </a:solidFill>
                <a:latin typeface="Calibri"/>
              </a:rPr>
              <a:t>A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arentesi graffa aperta 4"/>
          <p:cNvSpPr/>
          <p:nvPr/>
        </p:nvSpPr>
        <p:spPr>
          <a:xfrm>
            <a:off x="3000240" y="285840"/>
            <a:ext cx="857520" cy="6215040"/>
          </a:xfrm>
          <a:custGeom>
            <a:avLst/>
            <a:gdLst>
              <a:gd name="textAreaLeft" fmla="*/ 547920 w 857520"/>
              <a:gd name="textAreaRight" fmla="*/ 857880 w 857520"/>
              <a:gd name="textAreaTop" fmla="*/ 73440 h 6215040"/>
              <a:gd name="textAreaBottom" fmla="*/ 6141600 h 621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0"/>
                  <a:pt x="10800" y="819"/>
                </a:cubicBezTo>
                <a:lnTo>
                  <a:pt x="10800" y="11815"/>
                </a:lnTo>
                <a:cubicBezTo>
                  <a:pt x="10800" y="12225"/>
                  <a:pt x="5400" y="12634"/>
                  <a:pt x="0" y="12634"/>
                </a:cubicBezTo>
                <a:cubicBezTo>
                  <a:pt x="5400" y="12634"/>
                  <a:pt x="10800" y="13044"/>
                  <a:pt x="10800" y="13453"/>
                </a:cubicBezTo>
                <a:lnTo>
                  <a:pt x="10800" y="20781"/>
                </a:lnTo>
                <a:cubicBezTo>
                  <a:pt x="10800" y="2119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6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Orientamento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8802720" cy="25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alibri"/>
              </a:rPr>
              <a:t>FORM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tramite sviluppo di compete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asellaDiTesto 3"/>
          <p:cNvSpPr/>
          <p:nvPr/>
        </p:nvSpPr>
        <p:spPr>
          <a:xfrm rot="20081400">
            <a:off x="470880" y="99540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  <a:ea typeface="Arial"/>
              </a:rPr>
              <a:t>gradu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5"/>
          <p:cNvSpPr/>
          <p:nvPr/>
        </p:nvSpPr>
        <p:spPr>
          <a:xfrm rot="1774800">
            <a:off x="5415840" y="1260720"/>
            <a:ext cx="32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  <a:ea typeface="Arial"/>
              </a:rPr>
              <a:t>progress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6"/>
          <p:cNvSpPr/>
          <p:nvPr/>
        </p:nvSpPr>
        <p:spPr>
          <a:xfrm>
            <a:off x="2842560" y="5300640"/>
            <a:ext cx="34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  <a:ea typeface="Arial"/>
              </a:rPr>
              <a:t>processo continu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rco a tutto sesto 4"/>
          <p:cNvSpPr/>
          <p:nvPr/>
        </p:nvSpPr>
        <p:spPr>
          <a:xfrm rot="20035200">
            <a:off x="198000" y="1212480"/>
            <a:ext cx="3818160" cy="1789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I g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o a tutto sesto 5"/>
          <p:cNvSpPr/>
          <p:nvPr/>
        </p:nvSpPr>
        <p:spPr>
          <a:xfrm rot="2125200">
            <a:off x="5304960" y="1447920"/>
            <a:ext cx="3625920" cy="189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I I g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o a tutto sesto 6"/>
          <p:cNvSpPr/>
          <p:nvPr/>
        </p:nvSpPr>
        <p:spPr>
          <a:xfrm>
            <a:off x="285840" y="642960"/>
            <a:ext cx="8501040" cy="5143320"/>
          </a:xfrm>
          <a:custGeom>
            <a:avLst/>
            <a:gdLst>
              <a:gd name="textAreaLeft" fmla="*/ 5040 w 8501040"/>
              <a:gd name="textAreaRight" fmla="*/ 8501400 w 8501040"/>
              <a:gd name="textAreaTop" fmla="*/ 0 h 5143320"/>
              <a:gd name="textAreaBottom" fmla="*/ 2847600 h 5143320"/>
            </a:gdLst>
            <a:ahLst/>
            <a:rect l="textAreaLeft" t="textAreaTop" r="textAreaRight" b="textAreaBottom"/>
            <a:pathLst>
              <a:path w="8501063" h="5143500">
                <a:moveTo>
                  <a:pt x="5384" y="2442351"/>
                </a:moveTo>
                <a:lnTo>
                  <a:pt x="5384" y="2442351"/>
                </a:lnTo>
                <a:arcTo wR="4250532" hR="2571750" stAng="-10695244" swAng="10919430"/>
                <a:lnTo>
                  <a:pt x="7428426" y="2779276"/>
                </a:lnTo>
                <a:lnTo>
                  <a:pt x="7428426" y="2779276"/>
                </a:lnTo>
                <a:arcTo wR="3207584" hR="1528802" stAng="224177" swAng="-1091942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sellaDiTesto 7"/>
          <p:cNvSpPr/>
          <p:nvPr/>
        </p:nvSpPr>
        <p:spPr>
          <a:xfrm>
            <a:off x="4078080" y="1785960"/>
            <a:ext cx="19515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urri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et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2880000" y="521496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Calibri"/>
              </a:rPr>
              <a:t>Condivisa proget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9"/>
          <p:cNvSpPr/>
          <p:nvPr/>
        </p:nvSpPr>
        <p:spPr>
          <a:xfrm>
            <a:off x="502560" y="2643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10"/>
          <p:cNvSpPr/>
          <p:nvPr/>
        </p:nvSpPr>
        <p:spPr>
          <a:xfrm>
            <a:off x="7789680" y="30002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I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ttangolo 3"/>
          <p:cNvSpPr/>
          <p:nvPr/>
        </p:nvSpPr>
        <p:spPr>
          <a:xfrm>
            <a:off x="4716360" y="5157720"/>
            <a:ext cx="3168720" cy="136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Arial"/>
              </a:rPr>
              <a:t>Scuola secondaria di primo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tangolo 4"/>
          <p:cNvSpPr/>
          <p:nvPr/>
        </p:nvSpPr>
        <p:spPr>
          <a:xfrm>
            <a:off x="4427640" y="549360"/>
            <a:ext cx="3095640" cy="136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Arial"/>
              </a:rPr>
              <a:t>Scuola secondaria di II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sellaDiTesto 19"/>
          <p:cNvSpPr/>
          <p:nvPr/>
        </p:nvSpPr>
        <p:spPr>
          <a:xfrm>
            <a:off x="96120" y="3429000"/>
            <a:ext cx="822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7375e"/>
                </a:solidFill>
                <a:latin typeface="Calibri"/>
                <a:ea typeface="Arial"/>
              </a:rPr>
              <a:t>                               </a:t>
            </a:r>
            <a:r>
              <a:rPr b="1" lang="it-IT" sz="3200" spc="-1" strike="noStrike">
                <a:solidFill>
                  <a:srgbClr val="17375e"/>
                </a:solidFill>
                <a:latin typeface="Calibri"/>
                <a:ea typeface="Arial"/>
              </a:rPr>
              <a:t>ASSUNZIONE DI UNA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7375e"/>
                </a:solidFill>
                <a:latin typeface="Calibri"/>
                <a:ea typeface="Arial"/>
              </a:rPr>
              <a:t>                                        </a:t>
            </a:r>
            <a:r>
              <a:rPr b="1" lang="it-IT" sz="3200" spc="-1" strike="noStrike">
                <a:solidFill>
                  <a:srgbClr val="17375e"/>
                </a:solidFill>
                <a:latin typeface="Calibri"/>
                <a:ea typeface="Arial"/>
              </a:rPr>
              <a:t>IPOTESI FORM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Rettangolo 21" descr=""/>
          <p:cNvPicPr/>
          <p:nvPr/>
        </p:nvPicPr>
        <p:blipFill>
          <a:blip r:embed="rId1"/>
          <a:stretch/>
        </p:blipFill>
        <p:spPr>
          <a:xfrm>
            <a:off x="5291280" y="2494080"/>
            <a:ext cx="3706560" cy="779400"/>
          </a:xfrm>
          <a:prstGeom prst="rect">
            <a:avLst/>
          </a:prstGeom>
          <a:ln w="0">
            <a:noFill/>
          </a:ln>
        </p:spPr>
      </p:pic>
      <p:pic>
        <p:nvPicPr>
          <p:cNvPr id="147" name="Rettangolo 7" descr=""/>
          <p:cNvPicPr/>
          <p:nvPr/>
        </p:nvPicPr>
        <p:blipFill>
          <a:blip r:embed="rId2"/>
          <a:stretch/>
        </p:blipFill>
        <p:spPr>
          <a:xfrm>
            <a:off x="469800" y="4505400"/>
            <a:ext cx="3705480" cy="785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f2_59"/>
          <p:cNvPicPr/>
          <p:nvPr/>
        </p:nvPicPr>
        <p:blipFill>
          <a:blip r:embed="rId3"/>
          <a:stretch/>
        </p:blipFill>
        <p:spPr>
          <a:xfrm>
            <a:off x="324000" y="260280"/>
            <a:ext cx="2663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Per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07640" y="1412640"/>
            <a:ext cx="2087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gevolare  il passaggio da un grado di scuola all’alt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692000" y="3938400"/>
            <a:ext cx="280332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Ridurre le cause che normalmente determinano il successo o i disagi soprattutto per i ragazzi più a risch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Diminuire il carico emotivo e l’ansia legata alla nuova esperienza degli alunni più giovani, verso i quali gli studenti della scuola successiva assumono compiti di tipo tutori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324000" y="1197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6443640" y="1413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179280" y="3645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tangolo 3"/>
          <p:cNvSpPr/>
          <p:nvPr/>
        </p:nvSpPr>
        <p:spPr>
          <a:xfrm>
            <a:off x="2928960" y="2643120"/>
            <a:ext cx="2722680" cy="107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Arial"/>
              </a:rPr>
              <a:t>Scuola secondaria di secondo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4"/>
          <p:cNvSpPr/>
          <p:nvPr/>
        </p:nvSpPr>
        <p:spPr>
          <a:xfrm>
            <a:off x="714240" y="928800"/>
            <a:ext cx="3095640" cy="136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POST DIPL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ttore 1 13"/>
          <p:cNvSpPr/>
          <p:nvPr/>
        </p:nvSpPr>
        <p:spPr>
          <a:xfrm flipH="1" flipV="1">
            <a:off x="1835280" y="2708280"/>
            <a:ext cx="792000" cy="50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9"/>
          <p:cNvSpPr/>
          <p:nvPr/>
        </p:nvSpPr>
        <p:spPr>
          <a:xfrm>
            <a:off x="5508720" y="4005360"/>
            <a:ext cx="3097080" cy="107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Arial"/>
              </a:rPr>
              <a:t>Scuola seco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Arial"/>
              </a:rPr>
              <a:t>di primo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nettore 1 20"/>
          <p:cNvSpPr/>
          <p:nvPr/>
        </p:nvSpPr>
        <p:spPr>
          <a:xfrm flipH="1" flipV="1">
            <a:off x="4427280" y="4005000"/>
            <a:ext cx="865080" cy="43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ttangolo 22" descr=""/>
          <p:cNvPicPr/>
          <p:nvPr/>
        </p:nvPicPr>
        <p:blipFill>
          <a:blip r:embed="rId1"/>
          <a:stretch/>
        </p:blipFill>
        <p:spPr>
          <a:xfrm>
            <a:off x="249120" y="3297240"/>
            <a:ext cx="3573720" cy="3560760"/>
          </a:xfrm>
          <a:prstGeom prst="rect">
            <a:avLst/>
          </a:prstGeom>
          <a:ln w="0">
            <a:noFill/>
          </a:ln>
        </p:spPr>
      </p:pic>
      <p:pic>
        <p:nvPicPr>
          <p:cNvPr id="60" name="Rettangolo 23" descr=""/>
          <p:cNvPicPr/>
          <p:nvPr/>
        </p:nvPicPr>
        <p:blipFill>
          <a:blip r:embed="rId2"/>
          <a:stretch/>
        </p:blipFill>
        <p:spPr>
          <a:xfrm>
            <a:off x="5797440" y="476280"/>
            <a:ext cx="3022560" cy="39495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8"/>
          <p:cNvSpPr/>
          <p:nvPr/>
        </p:nvSpPr>
        <p:spPr>
          <a:xfrm>
            <a:off x="3937320" y="121428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in us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sellaDiTesto 9"/>
          <p:cNvSpPr/>
          <p:nvPr/>
        </p:nvSpPr>
        <p:spPr>
          <a:xfrm>
            <a:off x="2916360" y="566100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  <a:ea typeface="Arial"/>
              </a:rPr>
              <a:t>in ingr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egnaposto piè di pagina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tangolo 19"/>
          <p:cNvSpPr/>
          <p:nvPr/>
        </p:nvSpPr>
        <p:spPr>
          <a:xfrm>
            <a:off x="5508720" y="5734080"/>
            <a:ext cx="3166920" cy="79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Arial"/>
              </a:rPr>
              <a:t>Scuola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nettore 1 20"/>
          <p:cNvSpPr/>
          <p:nvPr/>
        </p:nvSpPr>
        <p:spPr>
          <a:xfrm flipH="1" flipV="1">
            <a:off x="6659280" y="5229000"/>
            <a:ext cx="360360" cy="43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alibri"/>
              </a:rPr>
              <a:t>E ancora per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989000"/>
            <a:ext cx="7715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Realizzare una  consapevole cooperazione tra  i docenti  della secondaria di I e di II grado con la progettazione, realizzazione e valutazione di   attività didatti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Consolidare le capacità decisionali degli alunni nei confronti della loro carriera scolastica e del progetto di vi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Rinforzare l’autostima di ciascun allie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050920" y="3645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6516720" y="32130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4140360" y="112536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Progettazione  concordata in continuità I  e II cic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2997000"/>
            <a:ext cx="38894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cc3300"/>
                </a:solidFill>
                <a:latin typeface="Calibri"/>
              </a:rPr>
              <a:t>Costruire percorsi di apprendiment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el primo ciclo utili allo sviluppo delle </a:t>
            </a:r>
            <a:r>
              <a:rPr b="1" lang="it-IT" sz="2800" spc="-1" strike="noStrike">
                <a:solidFill>
                  <a:srgbClr val="006600"/>
                </a:solidFill>
                <a:latin typeface="Calibri"/>
              </a:rPr>
              <a:t>competenze alfabetiche di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141720"/>
            <a:ext cx="4114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Calibri"/>
              </a:rPr>
              <a:t>           </a:t>
            </a:r>
            <a:r>
              <a:rPr b="1" lang="it-IT" sz="3200" spc="-1" strike="noStrike">
                <a:solidFill>
                  <a:srgbClr val="cc3300"/>
                </a:solidFill>
                <a:latin typeface="Calibri"/>
              </a:rPr>
              <a:t>Coprogettare</a:t>
            </a:r>
            <a:r>
              <a:rPr b="1" lang="it-IT" sz="32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1" lang="it-IT" sz="2800" spc="-1" strike="noStrike">
                <a:solidFill>
                  <a:srgbClr val="1f497d"/>
                </a:solidFill>
                <a:latin typeface="Calibri"/>
              </a:rPr>
              <a:t>interventi  educativi e didattici per rendere omogeneo il percorso dal I al II cic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newcastle-bridges11"/>
          <p:cNvPicPr/>
          <p:nvPr/>
        </p:nvPicPr>
        <p:blipFill>
          <a:blip r:embed="rId1"/>
          <a:stretch/>
        </p:blipFill>
        <p:spPr>
          <a:xfrm>
            <a:off x="971640" y="2133720"/>
            <a:ext cx="7561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3300"/>
                </a:solidFill>
                <a:latin typeface="Calibri"/>
              </a:rPr>
              <a:t>Capovolgere il punto di parten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58560" y="1600200"/>
            <a:ext cx="3236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Fissare le competenze da fare acquisire al termine del primo bienn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7280" y="3938760"/>
            <a:ext cx="367200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Scegliere i nodi concettuali fondamentali per comprendere lo statuto delle discipline e individuare i nessi principali tra un argomento e l’al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43528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f497d"/>
                </a:solidFill>
                <a:latin typeface="Calibri"/>
              </a:rPr>
              <a:t>Individuare le metodologie didattiche più utili per rendere fruibile l’apprendi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468360" y="19890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4932360" y="292428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468360" y="4869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3300"/>
                </a:solidFill>
                <a:latin typeface="Calibri"/>
              </a:rPr>
              <a:t>Capovolgere il punto di parten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403280" y="1413000"/>
            <a:ext cx="417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f497d"/>
                </a:solidFill>
                <a:latin typeface="Calibri"/>
              </a:rPr>
              <a:t>Fissare i criteri e gli indicatori della valutazione delle competen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63640" y="3938760"/>
            <a:ext cx="30956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f497d"/>
                </a:solidFill>
                <a:latin typeface="Calibri"/>
              </a:rPr>
              <a:t>Procedere alla certificazione delle competen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395280" y="2492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5003640" y="42210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Procedura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pprovazione del progetto di continuità nel Collegio Docenti del mese di Sette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342900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utocandidature dei Consigli di Classe per il progetto e nomina dei docenti incarica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3938760"/>
            <a:ext cx="3827520" cy="27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Sottoscrizione della convenzione stipulata dai Dirigenti degli Istituti coinvolti  e definizione dei tempi e dei modi di realizzazione del proget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5" descr="A little flow chart concept with gears."/>
          <p:cNvPicPr/>
          <p:nvPr/>
        </p:nvPicPr>
        <p:blipFill>
          <a:blip r:embed="rId1"/>
          <a:stretch/>
        </p:blipFill>
        <p:spPr>
          <a:xfrm>
            <a:off x="4859280" y="907920"/>
            <a:ext cx="36734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3300"/>
                </a:solidFill>
                <a:latin typeface="Calibri"/>
              </a:rPr>
              <a:t>Procedur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42560" y="1599840"/>
            <a:ext cx="34527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Stesura del Piano annuale delle attività da parte del Dirigente corredato del calendario degli incontri tra i docenti degli istituti interess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Calendario degli incontri degli studenti  e dei doc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3" descr="A little flow chart concept with gears."/>
          <p:cNvPicPr/>
          <p:nvPr/>
        </p:nvPicPr>
        <p:blipFill>
          <a:blip r:embed="rId1"/>
          <a:stretch/>
        </p:blipFill>
        <p:spPr>
          <a:xfrm>
            <a:off x="4716360" y="1341360"/>
            <a:ext cx="3527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Operazioni per realizzare il progetto di continuit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31780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Progettazione comune dei curricoli, al fine di evitare inutili ripeti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580000" y="1600200"/>
            <a:ext cx="310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Stesura di un Piano annuale delle attività concor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3938400"/>
            <a:ext cx="3467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Individuazione dei  tempi e degli  orari per gli incontri di programmazione dei docenti e per le attività comuni degli stu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64000" y="3938760"/>
            <a:ext cx="3322800" cy="27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Descrizione delle tipologie di attività e dei contenuti disciplinari relativi alle materie  presenti negli ordinamenti dei due cic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La funzione sinergica dei dipartimen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Fissare le competenze per il primo biennio, in riferimento al Profilo in usc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Costruire curricoli verticali chiari nelle competenze dal I al V an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Fissare i criteri e gli indicatori della valutazione delle competenze essenzi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Preparare prove di verifica in ingresso, in itinere e finali di tipologie diver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4500720" y="177336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901" y="10800"/>
                </a:moveTo>
                <a:cubicBezTo>
                  <a:pt x="3901" y="14610"/>
                  <a:pt x="6990" y="17699"/>
                  <a:pt x="10800" y="17699"/>
                </a:cubicBezTo>
                <a:cubicBezTo>
                  <a:pt x="14610" y="17699"/>
                  <a:pt x="17699" y="14610"/>
                  <a:pt x="17699" y="10800"/>
                </a:cubicBezTo>
                <a:cubicBezTo>
                  <a:pt x="17699" y="6990"/>
                  <a:pt x="14610" y="3901"/>
                  <a:pt x="10800" y="3901"/>
                </a:cubicBezTo>
                <a:cubicBezTo>
                  <a:pt x="6990" y="3901"/>
                  <a:pt x="3901" y="6990"/>
                  <a:pt x="3901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179280" y="4005360"/>
            <a:ext cx="289080" cy="287280"/>
          </a:xfrm>
          <a:custGeom>
            <a:avLst/>
            <a:gdLst>
              <a:gd name="textAreaLeft" fmla="*/ 42120 w 289080"/>
              <a:gd name="textAreaRight" fmla="*/ 246960 w 2890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250920" y="1700280"/>
            <a:ext cx="288720" cy="288720"/>
          </a:xfrm>
          <a:custGeom>
            <a:avLst/>
            <a:gdLst>
              <a:gd name="textAreaLeft" fmla="*/ 42120 w 288720"/>
              <a:gd name="textAreaRight" fmla="*/ 246600 w 288720"/>
              <a:gd name="textAreaTop" fmla="*/ 42120 h 288720"/>
              <a:gd name="textAreaBottom" fmla="*/ 2466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4643280" y="4076640"/>
            <a:ext cx="287640" cy="287280"/>
          </a:xfrm>
          <a:custGeom>
            <a:avLst/>
            <a:gdLst>
              <a:gd name="textAreaLeft" fmla="*/ 42120 w 287640"/>
              <a:gd name="textAreaRight" fmla="*/ 245520 w 287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901" y="10800"/>
                </a:moveTo>
                <a:cubicBezTo>
                  <a:pt x="3901" y="14610"/>
                  <a:pt x="6990" y="17699"/>
                  <a:pt x="10800" y="17699"/>
                </a:cubicBezTo>
                <a:cubicBezTo>
                  <a:pt x="14610" y="17699"/>
                  <a:pt x="17699" y="14610"/>
                  <a:pt x="17699" y="10800"/>
                </a:cubicBezTo>
                <a:cubicBezTo>
                  <a:pt x="17699" y="6990"/>
                  <a:pt x="14610" y="3901"/>
                  <a:pt x="10800" y="3901"/>
                </a:cubicBezTo>
                <a:cubicBezTo>
                  <a:pt x="6990" y="3901"/>
                  <a:pt x="3901" y="6990"/>
                  <a:pt x="3901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La progettazione congiunta di un curricolo verticale: 3+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6920" y="1628640"/>
            <a:ext cx="259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Livelli culturali in  en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Individuazione delle competenze fondamentali  in riferimento al profilo educativo, culturale e professionale dello studente (Indicazioni Nazionali per il I bienn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3141720"/>
            <a:ext cx="361008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Individuazione delle competenze fondamentali  in riferimento al profilo dello studente al termine della secondaria di I g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7960" y="4437000"/>
            <a:ext cx="374004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Individuazione delle competenze fondamentali per ogni singolo anno scolas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18"/>
          <p:cNvGrpSpPr/>
          <p:nvPr/>
        </p:nvGrpSpPr>
        <p:grpSpPr>
          <a:xfrm>
            <a:off x="3924360" y="1916280"/>
            <a:ext cx="936720" cy="3960720"/>
            <a:chOff x="3924360" y="1916280"/>
            <a:chExt cx="936720" cy="3960720"/>
          </a:xfrm>
        </p:grpSpPr>
        <p:sp>
          <p:nvSpPr>
            <p:cNvPr id="208" name="Pyr1"/>
            <p:cNvSpPr/>
            <p:nvPr/>
          </p:nvSpPr>
          <p:spPr>
            <a:xfrm>
              <a:off x="4288680" y="1916280"/>
              <a:ext cx="209880" cy="877680"/>
            </a:xfrm>
            <a:custGeom>
              <a:avLst/>
              <a:gdLst>
                <a:gd name="textAreaLeft" fmla="*/ 52560 w 209880"/>
                <a:gd name="textAreaRight" fmla="*/ 157680 w 209880"/>
                <a:gd name="textAreaTop" fmla="*/ 479520 h 877680"/>
                <a:gd name="textAreaBottom" fmla="*/ 83700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yr2"/>
            <p:cNvSpPr/>
            <p:nvPr/>
          </p:nvSpPr>
          <p:spPr>
            <a:xfrm>
              <a:off x="4167360" y="2793960"/>
              <a:ext cx="451800" cy="1029600"/>
            </a:xfrm>
            <a:custGeom>
              <a:avLst/>
              <a:gdLst>
                <a:gd name="textAreaLeft" fmla="*/ 120960 w 451800"/>
                <a:gd name="textAreaRight" fmla="*/ 330840 w 451800"/>
                <a:gd name="textAreaTop" fmla="*/ 24120 h 1029600"/>
                <a:gd name="textAreaBottom" fmla="*/ 1005480 h 102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yr3"/>
            <p:cNvSpPr/>
            <p:nvPr/>
          </p:nvSpPr>
          <p:spPr>
            <a:xfrm>
              <a:off x="4046760" y="3823920"/>
              <a:ext cx="692640" cy="1028520"/>
            </a:xfrm>
            <a:custGeom>
              <a:avLst/>
              <a:gdLst>
                <a:gd name="textAreaLeft" fmla="*/ 169560 w 692640"/>
                <a:gd name="textAreaRight" fmla="*/ 523080 w 692640"/>
                <a:gd name="textAreaTop" fmla="*/ 24120 h 1028520"/>
                <a:gd name="textAreaBottom" fmla="*/ 100440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Pyr4"/>
            <p:cNvSpPr/>
            <p:nvPr/>
          </p:nvSpPr>
          <p:spPr>
            <a:xfrm>
              <a:off x="3924360" y="4847400"/>
              <a:ext cx="936720" cy="1029600"/>
            </a:xfrm>
            <a:custGeom>
              <a:avLst/>
              <a:gdLst>
                <a:gd name="textAreaLeft" fmla="*/ 142200 w 936720"/>
                <a:gd name="textAreaRight" fmla="*/ 750960 w 936720"/>
                <a:gd name="textAreaTop" fmla="*/ 24120 h 1029600"/>
                <a:gd name="textAreaBottom" fmla="*/ 1005480 h 102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La progettazione congiunta di un curricolo verticale: 3+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9280" y="1916280"/>
            <a:ext cx="3456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Scelta degli OSA (contenuti) in riferimento alle indicazioni Nazion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Monitoraggio dei risultati ottenuti al termine di ciascun anno scolastico e analisi degli stessi per eventuali correzioni e/o interventi tempes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4005000"/>
            <a:ext cx="3251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Individuazione delle metodologie di insegnamento ritenute utili per il conseguimento dei risultati fiss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Individuazione delle competen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7960" y="4437000"/>
            <a:ext cx="374004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Criteri e indicatori di valutazione e certificazione delle competenze secondo il modello minister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8"/>
          <p:cNvGrpSpPr/>
          <p:nvPr/>
        </p:nvGrpSpPr>
        <p:grpSpPr>
          <a:xfrm>
            <a:off x="3924360" y="1916280"/>
            <a:ext cx="936720" cy="3960720"/>
            <a:chOff x="3924360" y="1916280"/>
            <a:chExt cx="936720" cy="3960720"/>
          </a:xfrm>
        </p:grpSpPr>
        <p:sp>
          <p:nvSpPr>
            <p:cNvPr id="218" name="Pyr1"/>
            <p:cNvSpPr/>
            <p:nvPr/>
          </p:nvSpPr>
          <p:spPr>
            <a:xfrm>
              <a:off x="4288680" y="1916280"/>
              <a:ext cx="209880" cy="877680"/>
            </a:xfrm>
            <a:custGeom>
              <a:avLst/>
              <a:gdLst>
                <a:gd name="textAreaLeft" fmla="*/ 52560 w 209880"/>
                <a:gd name="textAreaRight" fmla="*/ 157680 w 209880"/>
                <a:gd name="textAreaTop" fmla="*/ 479520 h 877680"/>
                <a:gd name="textAreaBottom" fmla="*/ 837000 h 8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yr2"/>
            <p:cNvSpPr/>
            <p:nvPr/>
          </p:nvSpPr>
          <p:spPr>
            <a:xfrm>
              <a:off x="4167360" y="2793960"/>
              <a:ext cx="451800" cy="1029600"/>
            </a:xfrm>
            <a:custGeom>
              <a:avLst/>
              <a:gdLst>
                <a:gd name="textAreaLeft" fmla="*/ 120960 w 451800"/>
                <a:gd name="textAreaRight" fmla="*/ 330840 w 451800"/>
                <a:gd name="textAreaTop" fmla="*/ 24120 h 1029600"/>
                <a:gd name="textAreaBottom" fmla="*/ 1005480 h 102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yr3"/>
            <p:cNvSpPr/>
            <p:nvPr/>
          </p:nvSpPr>
          <p:spPr>
            <a:xfrm>
              <a:off x="4046760" y="3823920"/>
              <a:ext cx="692640" cy="1028520"/>
            </a:xfrm>
            <a:custGeom>
              <a:avLst/>
              <a:gdLst>
                <a:gd name="textAreaLeft" fmla="*/ 169560 w 692640"/>
                <a:gd name="textAreaRight" fmla="*/ 523080 w 692640"/>
                <a:gd name="textAreaTop" fmla="*/ 24120 h 1028520"/>
                <a:gd name="textAreaBottom" fmla="*/ 100440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Pyr4"/>
            <p:cNvSpPr/>
            <p:nvPr/>
          </p:nvSpPr>
          <p:spPr>
            <a:xfrm>
              <a:off x="3924360" y="4847400"/>
              <a:ext cx="936720" cy="1029600"/>
            </a:xfrm>
            <a:custGeom>
              <a:avLst/>
              <a:gdLst>
                <a:gd name="textAreaLeft" fmla="*/ 142200 w 936720"/>
                <a:gd name="textAreaRight" fmla="*/ 750960 w 936720"/>
                <a:gd name="textAreaTop" fmla="*/ 24120 h 1029600"/>
                <a:gd name="textAreaBottom" fmla="*/ 1005480 h 102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tangolo 3"/>
          <p:cNvSpPr/>
          <p:nvPr/>
        </p:nvSpPr>
        <p:spPr>
          <a:xfrm>
            <a:off x="2735280" y="5157720"/>
            <a:ext cx="3673440" cy="1366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Scuola Seco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primo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tangolo 4"/>
          <p:cNvSpPr/>
          <p:nvPr/>
        </p:nvSpPr>
        <p:spPr>
          <a:xfrm>
            <a:off x="2786040" y="214200"/>
            <a:ext cx="3527280" cy="136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Scuola Seco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secondo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sellaDiTesto 25"/>
          <p:cNvSpPr/>
          <p:nvPr/>
        </p:nvSpPr>
        <p:spPr>
          <a:xfrm>
            <a:off x="285840" y="2214720"/>
            <a:ext cx="82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La situazione di transi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appresenta una </a:t>
            </a:r>
            <a:r>
              <a:rPr b="1" lang="it-IT" sz="2000" spc="-1" strike="noStrike">
                <a:solidFill>
                  <a:srgbClr val="ff0000"/>
                </a:solidFill>
                <a:latin typeface="Bookman Old Style"/>
                <a:ea typeface="Arial"/>
              </a:rPr>
              <a:t>situazione crit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che comporta uno stato temporaneo </a:t>
            </a:r>
            <a:r>
              <a:rPr b="1" lang="it-IT" sz="2000" spc="-1" strike="noStrike">
                <a:solidFill>
                  <a:srgbClr val="ff0000"/>
                </a:solidFill>
                <a:latin typeface="Bookman Old Style"/>
                <a:ea typeface="Arial"/>
              </a:rPr>
              <a:t>d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Bookman Old Style"/>
                <a:ea typeface="Arial"/>
              </a:rPr>
              <a:t>disorganizzazi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caratterizzato da una difficoltà dell’individuo nel fronteggiare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l’ev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utilizzando gli strumenti con cui abitualmente usa risolvere i problemi che gli si presentan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3300"/>
                </a:solidFill>
                <a:latin typeface="Calibri"/>
              </a:rPr>
              <a:t>Modalità di lavo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00000" y="1600200"/>
            <a:ext cx="35956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pprendimento cooperati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didattica laboratori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prove di verifica autonomamente decise da  ogni singolo Consiglio di Classe su indicazioni dei Dipartimenti disciplina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4508280"/>
            <a:ext cx="8147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prove elaborate insieme dai docenti dei due cicli, in relazione alle competenze da garantire al termine del primo ciclo e sulle quali avviare i percorsi di apprendimento disciplinari e/o trasversali ( es. competenze di cittadinanza) nel ciclo di studi success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250920" y="1916280"/>
            <a:ext cx="720720" cy="485640"/>
          </a:xfrm>
          <a:prstGeom prst="rightArrow">
            <a:avLst>
              <a:gd name="adj1" fmla="val 50000"/>
              <a:gd name="adj2" fmla="val 371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4211640" y="2133720"/>
            <a:ext cx="720720" cy="485640"/>
          </a:xfrm>
          <a:prstGeom prst="rightArrow">
            <a:avLst>
              <a:gd name="adj1" fmla="val 50000"/>
              <a:gd name="adj2" fmla="val 371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4211640" y="3357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3300"/>
                </a:solidFill>
                <a:latin typeface="Calibri"/>
              </a:rPr>
              <a:t>Organizzazione delle classi mi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alibri"/>
              </a:rPr>
              <a:t>Suddivisone degli studenti in piccoli gruppi misti secondo le modalità del </a:t>
            </a:r>
            <a:r>
              <a:rPr b="1" i="1" lang="it-IT" sz="2800" spc="-1" strike="noStrike">
                <a:solidFill>
                  <a:srgbClr val="003366"/>
                </a:solidFill>
                <a:latin typeface="Calibri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it-IT" sz="2800" spc="-1" strike="noStrike">
                <a:solidFill>
                  <a:srgbClr val="003366"/>
                </a:solidFill>
                <a:latin typeface="Calibri"/>
              </a:rPr>
              <a:t>Assegnazione di responsabilità di tutorato a studenti del II gr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alibri"/>
              </a:rPr>
              <a:t>Supervisione dei gruppi da parte da parte dei docenti dei due cic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179280" y="263700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4572000" y="198900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4211640" y="4076640"/>
            <a:ext cx="576360" cy="486000"/>
          </a:xfrm>
          <a:prstGeom prst="rightArrow">
            <a:avLst>
              <a:gd name="adj1" fmla="val 50000"/>
              <a:gd name="adj2" fmla="val 2964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ttangolo 4"/>
          <p:cNvSpPr/>
          <p:nvPr/>
        </p:nvSpPr>
        <p:spPr>
          <a:xfrm>
            <a:off x="1476360" y="404640"/>
            <a:ext cx="6480360" cy="13687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  <a:ea typeface="Arial"/>
              </a:rPr>
              <a:t>POST DIPL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asellaDiTesto 8"/>
          <p:cNvSpPr/>
          <p:nvPr/>
        </p:nvSpPr>
        <p:spPr>
          <a:xfrm>
            <a:off x="179280" y="2133720"/>
            <a:ext cx="223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i="1" lang="it-IT" sz="2800" spc="-1" strike="noStrike">
                <a:solidFill>
                  <a:srgbClr val="cc3300"/>
                </a:solidFill>
                <a:latin typeface="Calibri"/>
                <a:ea typeface="Arial"/>
              </a:rPr>
              <a:t>iniz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6633"/>
                </a:solidFill>
                <a:latin typeface="Calibri"/>
                <a:ea typeface="Arial"/>
              </a:rPr>
              <a:t>Banca dati  diplom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6633"/>
                </a:solidFill>
                <a:latin typeface="Calibri"/>
                <a:ea typeface="Arial"/>
              </a:rPr>
              <a:t>Monitoraggio annu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sellaDiTesto 9"/>
          <p:cNvSpPr/>
          <p:nvPr/>
        </p:nvSpPr>
        <p:spPr>
          <a:xfrm>
            <a:off x="5076720" y="2071800"/>
            <a:ext cx="3940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it-IT" sz="2800" spc="-1" strike="noStrike">
                <a:solidFill>
                  <a:srgbClr val="cc3300"/>
                </a:solidFill>
                <a:latin typeface="Calibri"/>
                <a:ea typeface="Arial"/>
              </a:rPr>
              <a:t>funzion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alibri"/>
                <a:ea typeface="Arial"/>
              </a:rPr>
              <a:t>a </a:t>
            </a:r>
            <a:r>
              <a:rPr b="1" lang="it-IT" sz="2800" spc="-1" strike="noStrike">
                <a:solidFill>
                  <a:srgbClr val="666633"/>
                </a:solidFill>
                <a:latin typeface="Calibri"/>
                <a:ea typeface="Arial"/>
              </a:rPr>
              <a:t>curvare il curricolo alle esigenze e alle aspet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6633"/>
                </a:solidFill>
                <a:latin typeface="Calibri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alibri"/>
                <a:ea typeface="Arial"/>
              </a:rPr>
              <a:t>ad</a:t>
            </a:r>
            <a:r>
              <a:rPr b="1" lang="it-IT" sz="2800" spc="-1" strike="noStrike">
                <a:solidFill>
                  <a:srgbClr val="666633"/>
                </a:solidFill>
                <a:latin typeface="Calibri"/>
                <a:ea typeface="Arial"/>
              </a:rPr>
              <a:t> arricchire l’offerta form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alibri"/>
                <a:ea typeface="Arial"/>
              </a:rPr>
              <a:t>a</a:t>
            </a:r>
            <a:r>
              <a:rPr b="1" lang="it-IT" sz="2800" spc="-1" strike="noStrike">
                <a:solidFill>
                  <a:srgbClr val="666633"/>
                </a:solidFill>
                <a:latin typeface="Calibri"/>
                <a:ea typeface="Arial"/>
              </a:rPr>
              <a:t> stabilire contatti con le università e con il mondo del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scale-esterne-dritte-154910"/>
          <p:cNvPicPr/>
          <p:nvPr/>
        </p:nvPicPr>
        <p:blipFill>
          <a:blip r:embed="rId1"/>
          <a:stretch/>
        </p:blipFill>
        <p:spPr>
          <a:xfrm>
            <a:off x="2341440" y="2060640"/>
            <a:ext cx="2435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Rapporto Fondazione Agnelli sulla scuola in Italia 20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666633"/>
                </a:solidFill>
                <a:latin typeface="Calibri"/>
              </a:rPr>
              <a:t>Scuola Media</a:t>
            </a:r>
            <a:r>
              <a:rPr b="1" lang="it-IT" sz="2800" spc="-1" strike="noStrike">
                <a:solidFill>
                  <a:srgbClr val="6666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6633"/>
                </a:solidFill>
                <a:latin typeface="Calibri"/>
              </a:rPr>
              <a:t>anello debole della scuola itali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Discontinuità con la scuola prima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alto tasso di non promozioni in prima me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umero alto di docenti, ciascuno con i propri approcci didattici, metodi di insegnamento e criteri di valut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5"/>
          <p:cNvSpPr/>
          <p:nvPr/>
        </p:nvSpPr>
        <p:spPr>
          <a:xfrm>
            <a:off x="6443640" y="2637000"/>
            <a:ext cx="485640" cy="328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0"/>
          <p:cNvSpPr/>
          <p:nvPr/>
        </p:nvSpPr>
        <p:spPr>
          <a:xfrm>
            <a:off x="4572000" y="1628640"/>
            <a:ext cx="360360" cy="432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2680 h 4321440"/>
              <a:gd name="textAreaBottom" fmla="*/ 4208760 h 43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Rapporto Fondazione Agnelli sulla scuola in Italia 20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it-IT" sz="3600" spc="-1" strike="noStrike">
                <a:solidFill>
                  <a:srgbClr val="666633"/>
                </a:solidFill>
                <a:latin typeface="Calibri"/>
              </a:rPr>
              <a:t>Scuola Media</a:t>
            </a:r>
            <a:r>
              <a:rPr b="1" lang="it-IT" sz="3200" spc="-1" strike="noStrike">
                <a:solidFill>
                  <a:srgbClr val="6666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6633"/>
                </a:solidFill>
                <a:latin typeface="Calibri"/>
              </a:rPr>
              <a:t>anello debole della scuola itali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alibri"/>
              </a:rPr>
              <a:t>Mancanza di un reale coordinamento interdisciplin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alibri"/>
              </a:rPr>
              <a:t>Rapporto studenti- doc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alibri"/>
              </a:rPr>
              <a:t>da empatico e diretto a formale, distacc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Calibri"/>
              </a:rPr>
              <a:t>pass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4572000" y="1628640"/>
            <a:ext cx="360360" cy="432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2680 h 4321440"/>
              <a:gd name="textAreaBottom" fmla="*/ 4208760 h 43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ISTAT annuario statistico</a:t>
            </a:r>
            <a:br>
              <a:rPr sz="4000"/>
            </a:b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istruzione a.s. 2009/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it-IT" sz="3600" spc="-1" strike="noStrike">
                <a:solidFill>
                  <a:srgbClr val="666633"/>
                </a:solidFill>
                <a:latin typeface="Calibri"/>
              </a:rPr>
              <a:t>Scuola Media</a:t>
            </a:r>
            <a:r>
              <a:rPr b="1" lang="it-IT" sz="3200" spc="-1" strike="noStrike">
                <a:solidFill>
                  <a:srgbClr val="6666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6633"/>
                </a:solidFill>
                <a:latin typeface="Calibri"/>
              </a:rPr>
              <a:t>anello debole della scuola itali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alibri"/>
              </a:rPr>
              <a:t>20,3% gli alunni non promossi nel passaggio dal primo al secondo anno della secondaria di II grado: 1 su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4572000" y="1628640"/>
            <a:ext cx="360360" cy="432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2680 h 4321440"/>
              <a:gd name="textAreaBottom" fmla="*/ 4208760 h 43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ISTAT annuario statistico</a:t>
            </a:r>
            <a:br>
              <a:rPr sz="4000"/>
            </a:br>
            <a:r>
              <a:rPr b="1" lang="it-IT" sz="4000" spc="-1" strike="noStrike">
                <a:solidFill>
                  <a:srgbClr val="cc3300"/>
                </a:solidFill>
                <a:latin typeface="Calibri"/>
              </a:rPr>
              <a:t>istruzione a. s. 2009/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it-IT" sz="3600" spc="-1" strike="noStrike">
                <a:solidFill>
                  <a:srgbClr val="666633"/>
                </a:solidFill>
                <a:latin typeface="Calibri"/>
              </a:rPr>
              <a:t>Scuola Media</a:t>
            </a:r>
            <a:r>
              <a:rPr b="1" lang="it-IT" sz="3200" spc="-1" strike="noStrike">
                <a:solidFill>
                  <a:srgbClr val="6666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6633"/>
                </a:solidFill>
                <a:latin typeface="Calibri"/>
              </a:rPr>
              <a:t>anello debole della scuola itali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88000" y="263700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Difficoltà di adattamento a un nuovo ciclo di studi dovute ai cambiament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metodologia didat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nei conten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nelle modalità rela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4572000" y="3933720"/>
            <a:ext cx="503280" cy="50328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4427640" y="5300640"/>
            <a:ext cx="360360" cy="50472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4572000" y="4653000"/>
            <a:ext cx="503280" cy="503280"/>
          </a:xfrm>
          <a:prstGeom prst="lightningBol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Scuola Seconda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6760" y="19998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2d2db9"/>
                </a:solidFill>
                <a:latin typeface="Century Schoolbook"/>
                <a:ea typeface="Lucida Sans Unicode"/>
              </a:rPr>
              <a:t>I G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BIENN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III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3280" y="199980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2d2db9"/>
                </a:solidFill>
                <a:latin typeface="Century Schoolbook"/>
                <a:ea typeface="Lucida Sans Unicode"/>
              </a:rPr>
              <a:t>I I G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I BIENN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II BIENN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V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Connettore 2 7"/>
          <p:cNvCxnSpPr>
            <a:stCxn id="89" idx="2"/>
          </p:cNvCxnSpPr>
          <p:nvPr/>
        </p:nvCxnSpPr>
        <p:spPr>
          <a:xfrm flipH="1">
            <a:off x="1928520" y="1417680"/>
            <a:ext cx="2643840" cy="940320"/>
          </a:xfrm>
          <a:prstGeom prst="straightConnector1">
            <a:avLst/>
          </a:prstGeom>
          <a:ln w="2844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5" name="Connettore 2 10"/>
          <p:cNvCxnSpPr/>
          <p:nvPr/>
        </p:nvCxnSpPr>
        <p:spPr>
          <a:xfrm flipV="1">
            <a:off x="1928520" y="2285640"/>
            <a:ext cx="4786920" cy="720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alibri"/>
              </a:rPr>
              <a:t>Profilo educativo culturale e professionale alla fine del I ciclo di istruzione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alibri"/>
              </a:rPr>
              <a:t>D.Leg.vo 59/200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alibri"/>
              </a:rPr>
              <a:t>Allegato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Calibri"/>
              </a:rPr>
              <a:t>Il traguardo può ritenersi raggiunto se le conoscenze disciplinari e interdisciplinari (il sapere) e le abilità operative (il fare) …  sono diventate competenze personali di ciascu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alibri"/>
              </a:rPr>
              <a:t>D.M.2007: Indicazioni per il curricolo scuola dell’infanzia e I ciclo di istruzi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6600"/>
                </a:solidFill>
                <a:latin typeface="Calibri"/>
              </a:rPr>
              <a:t>Acquisizione di competenze trasversali rappresentano la condizione  per l’esercizio della cittadinanza at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5:13:06Z</dcterms:created>
  <dc:creator>.</dc:creator>
  <dc:description/>
  <dc:language>en-US</dc:language>
  <cp:lastModifiedBy>Ufficio autonomia</cp:lastModifiedBy>
  <dcterms:modified xsi:type="dcterms:W3CDTF">2012-01-24T12:05:51Z</dcterms:modified>
  <cp:revision>79</cp:revision>
  <dc:subject/>
  <dc:title>Diapositiva 1</dc:title>
</cp:coreProperties>
</file>